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B3B-5E0F-4EE5-A913-A010011A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673-71B8-4E05-A5F5-CA36FB2A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BDF-8294-45D8-8012-7C11DD4A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F8D-DEEB-4EF0-9BB7-1ADCC661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996-7242-4676-8402-9741F547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0DF-2930-4552-B378-DD7681F3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AA3-CB64-47AE-92DD-C777D08C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66B-4F8F-44B2-AF4E-10B65DB7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93-3EA0-4876-8D69-6094DC76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8DD-A244-4F42-A952-D05122D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EF8-EC92-4682-A20F-4C2272C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FA0-9BAB-4CFC-AB71-85A3D11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EFFFE-6971-4467-91E7-F94FAD197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FB525-7AF5-465D-B6DB-D76E4E7F3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307800"/>
            <a:ext cx="8763120" cy="6170760"/>
          </a:xfrm>
          <a:prstGeom prst="rect">
            <a:avLst/>
          </a:prstGeom>
          <a:ln w="0">
            <a:noFill/>
          </a:ln>
        </p:spPr>
      </p:pic>
      <p:sp>
        <p:nvSpPr>
          <p:cNvPr id="42" name="Action Button: Forward or Next 6">
            <a:hlinkClick r:id="" action="ppaction://hlinkshowjump?jump=nextslide"/>
          </p:cNvPr>
          <p:cNvSpPr/>
          <p:nvPr/>
        </p:nvSpPr>
        <p:spPr>
          <a:xfrm>
            <a:off x="40384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a9d2a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Forward or Next 5">
            <a:hlinkClick r:id="" action="ppaction://hlinkshowjump?jump=nextslide"/>
          </p:cNvPr>
          <p:cNvSpPr/>
          <p:nvPr/>
        </p:nvSpPr>
        <p:spPr>
          <a:xfrm>
            <a:off x="838080" y="457200"/>
            <a:ext cx="762120" cy="12193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219320"/>
              <a:gd name="textAreaBottom" fmla="*/ 1170000 h 121932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0269"/>
                </a:moveTo>
                <a:lnTo>
                  <a:pt x="17806" y="17276"/>
                </a:lnTo>
                <a:lnTo>
                  <a:pt x="3794" y="24282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215520" y="3962520"/>
            <a:ext cx="30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Forward or Next 5">
            <a:hlinkClick r:id="" action="ppaction://hlinkshowjump?jump=nextslide"/>
          </p:cNvPr>
          <p:cNvSpPr/>
          <p:nvPr/>
        </p:nvSpPr>
        <p:spPr>
          <a:xfrm>
            <a:off x="6553080" y="1828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600200" y="3962520"/>
            <a:ext cx="59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 ho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609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685600" y="3962520"/>
            <a:ext cx="373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1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Forward or Next 5">
            <a:hlinkClick r:id="" action="ppaction://hlinkshowjump?jump=nextslide"/>
          </p:cNvPr>
          <p:cNvSpPr/>
          <p:nvPr/>
        </p:nvSpPr>
        <p:spPr>
          <a:xfrm>
            <a:off x="4267080" y="609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138120" y="3962520"/>
            <a:ext cx="28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8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5">
            <a:hlinkClick r:id="" action="ppaction://hlinkshowjump?jump=nextslide"/>
          </p:cNvPr>
          <p:cNvSpPr/>
          <p:nvPr/>
        </p:nvSpPr>
        <p:spPr>
          <a:xfrm>
            <a:off x="1752480" y="4572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83" h="21600">
                <a:moveTo>
                  <a:pt x="16135" y="3794"/>
                </a:moveTo>
                <a:lnTo>
                  <a:pt x="30148" y="10800"/>
                </a:lnTo>
                <a:lnTo>
                  <a:pt x="16135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081520" y="3962520"/>
            <a:ext cx="47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serville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173160"/>
            <a:ext cx="8159760" cy="63039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"/>
          <a:stretch/>
        </p:blipFill>
        <p:spPr>
          <a:xfrm>
            <a:off x="139680" y="-133200"/>
            <a:ext cx="9193320" cy="2151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4263480" y="5105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ction Button: Custom 6">
            <a:hlinkClick r:id="" action="ppaction://hlinkshowjump?jump=endshow"/>
          </p:cNvPr>
          <p:cNvSpPr/>
          <p:nvPr/>
        </p:nvSpPr>
        <p:spPr>
          <a:xfrm>
            <a:off x="4267080" y="5105520"/>
            <a:ext cx="1043280" cy="520560"/>
          </a:xfrm>
          <a:custGeom>
            <a:avLst/>
            <a:gdLst>
              <a:gd name="textAreaLeft" fmla="*/ 33480 w 1043280"/>
              <a:gd name="textAreaRight" fmla="*/ 1009800 w 1043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75" h="21600">
                <a:moveTo>
                  <a:pt x="0" y="0"/>
                </a:moveTo>
                <a:lnTo>
                  <a:pt x="43275" y="0"/>
                </a:lnTo>
                <a:lnTo>
                  <a:pt x="43275" y="21600"/>
                </a:lnTo>
                <a:lnTo>
                  <a:pt x="0" y="21600"/>
                </a:lnTo>
                <a:close/>
              </a:path>
              <a:path fill="lightenLess" w="43275" h="21600">
                <a:moveTo>
                  <a:pt x="0" y="0"/>
                </a:moveTo>
                <a:lnTo>
                  <a:pt x="43275" y="0"/>
                </a:lnTo>
                <a:lnTo>
                  <a:pt x="41875" y="1400"/>
                </a:lnTo>
                <a:lnTo>
                  <a:pt x="1400" y="1400"/>
                </a:lnTo>
                <a:close/>
              </a:path>
              <a:path fill="darken" w="43275" h="21600">
                <a:moveTo>
                  <a:pt x="43275" y="0"/>
                </a:moveTo>
                <a:lnTo>
                  <a:pt x="43275" y="21600"/>
                </a:lnTo>
                <a:lnTo>
                  <a:pt x="41875" y="20200"/>
                </a:lnTo>
                <a:lnTo>
                  <a:pt x="41875" y="1400"/>
                </a:lnTo>
                <a:close/>
              </a:path>
              <a:path fill="darkenLess" w="43275" h="21600">
                <a:moveTo>
                  <a:pt x="43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5" y="20200"/>
                </a:lnTo>
                <a:close/>
              </a:path>
              <a:path fill="lighten" w="43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215880" y="3962520"/>
            <a:ext cx="31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ction Button: Forward or Next 8">
            <a:hlinkClick r:id="" action="ppaction://hlinkshowjump?jump=nextslide"/>
          </p:cNvPr>
          <p:cNvSpPr/>
          <p:nvPr/>
        </p:nvSpPr>
        <p:spPr>
          <a:xfrm>
            <a:off x="1523880" y="1752480"/>
            <a:ext cx="4191120" cy="1043280"/>
          </a:xfrm>
          <a:custGeom>
            <a:avLst/>
            <a:gdLst>
              <a:gd name="textAreaLeft" fmla="*/ 67320 w 4191120"/>
              <a:gd name="textAreaRight" fmla="*/ 4123800 w 419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6750" h="21600">
                <a:moveTo>
                  <a:pt x="0" y="0"/>
                </a:moveTo>
                <a:lnTo>
                  <a:pt x="86750" y="0"/>
                </a:lnTo>
                <a:lnTo>
                  <a:pt x="86750" y="21600"/>
                </a:lnTo>
                <a:lnTo>
                  <a:pt x="0" y="21600"/>
                </a:lnTo>
                <a:close/>
              </a:path>
              <a:path fill="lightenLess" w="86750" h="21600">
                <a:moveTo>
                  <a:pt x="0" y="0"/>
                </a:moveTo>
                <a:lnTo>
                  <a:pt x="86750" y="0"/>
                </a:lnTo>
                <a:lnTo>
                  <a:pt x="85350" y="1400"/>
                </a:lnTo>
                <a:lnTo>
                  <a:pt x="1400" y="1400"/>
                </a:lnTo>
                <a:close/>
              </a:path>
              <a:path fill="darken" w="86750" h="21600">
                <a:moveTo>
                  <a:pt x="86750" y="0"/>
                </a:moveTo>
                <a:lnTo>
                  <a:pt x="86750" y="21600"/>
                </a:lnTo>
                <a:lnTo>
                  <a:pt x="85350" y="20200"/>
                </a:lnTo>
                <a:lnTo>
                  <a:pt x="85350" y="1400"/>
                </a:lnTo>
                <a:close/>
              </a:path>
              <a:path fill="darkenLess" w="86750" h="21600">
                <a:moveTo>
                  <a:pt x="8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350" y="20200"/>
                </a:lnTo>
                <a:close/>
              </a:path>
              <a:path fill="lighten" w="8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750" h="21600">
                <a:moveTo>
                  <a:pt x="36369" y="3794"/>
                </a:moveTo>
                <a:lnTo>
                  <a:pt x="50382" y="10800"/>
                </a:lnTo>
                <a:lnTo>
                  <a:pt x="36369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320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52" name="Action Button: Forward or Next 5">
            <a:hlinkClick r:id="" action="ppaction://hlinkshowjump?jump=nextslide"/>
          </p:cNvPr>
          <p:cNvSpPr/>
          <p:nvPr/>
        </p:nvSpPr>
        <p:spPr>
          <a:xfrm>
            <a:off x="304920" y="457200"/>
            <a:ext cx="380880" cy="25909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2590920"/>
              <a:gd name="textAreaBottom" fmla="*/ 2566440 h 2590920"/>
            </a:gdLst>
            <a:ahLst/>
            <a:rect l="textAreaLeft" t="textAreaTop" r="textAreaRight" b="textAreaBottom"/>
            <a:pathLst>
              <a:path w="21600" h="146815">
                <a:moveTo>
                  <a:pt x="0" y="0"/>
                </a:moveTo>
                <a:lnTo>
                  <a:pt x="21600" y="0"/>
                </a:lnTo>
                <a:lnTo>
                  <a:pt x="21600" y="146815"/>
                </a:lnTo>
                <a:lnTo>
                  <a:pt x="0" y="146815"/>
                </a:lnTo>
                <a:close/>
              </a:path>
              <a:path fill="lightenLess" w="21600" h="1468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46815">
                <a:moveTo>
                  <a:pt x="21600" y="0"/>
                </a:moveTo>
                <a:lnTo>
                  <a:pt x="21600" y="146815"/>
                </a:lnTo>
                <a:lnTo>
                  <a:pt x="20200" y="145415"/>
                </a:lnTo>
                <a:lnTo>
                  <a:pt x="20200" y="1400"/>
                </a:lnTo>
                <a:close/>
              </a:path>
              <a:path fill="darkenLess" w="21600" h="146815">
                <a:moveTo>
                  <a:pt x="21600" y="146815"/>
                </a:moveTo>
                <a:lnTo>
                  <a:pt x="0" y="146815"/>
                </a:lnTo>
                <a:lnTo>
                  <a:pt x="1400" y="145415"/>
                </a:lnTo>
                <a:lnTo>
                  <a:pt x="20200" y="145415"/>
                </a:lnTo>
                <a:close/>
              </a:path>
              <a:path fill="lighten" w="21600" h="146815">
                <a:moveTo>
                  <a:pt x="0" y="1468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45415"/>
                </a:lnTo>
                <a:close/>
              </a:path>
              <a:path fill="darken" w="21600" h="146815">
                <a:moveTo>
                  <a:pt x="3794" y="66401"/>
                </a:moveTo>
                <a:lnTo>
                  <a:pt x="17806" y="73407"/>
                </a:lnTo>
                <a:lnTo>
                  <a:pt x="3794" y="80414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62760" y="3962520"/>
            <a:ext cx="425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561000" y="63673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8280" y="558720"/>
            <a:ext cx="7902720" cy="259560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Forward or Next 7">
            <a:hlinkClick r:id="" action="ppaction://hlinkshowjump?jump=nextslide"/>
          </p:cNvPr>
          <p:cNvSpPr/>
          <p:nvPr/>
        </p:nvSpPr>
        <p:spPr>
          <a:xfrm>
            <a:off x="8458200" y="380880"/>
            <a:ext cx="304920" cy="25146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2514600"/>
              <a:gd name="textAreaBottom" fmla="*/ 2495160 h 2514600"/>
            </a:gdLst>
            <a:ahLst/>
            <a:rect l="textAreaLeft" t="textAreaTop" r="textAreaRight" b="textAreaBottom"/>
            <a:pathLst>
              <a:path w="21600" h="177945">
                <a:moveTo>
                  <a:pt x="0" y="0"/>
                </a:moveTo>
                <a:lnTo>
                  <a:pt x="21600" y="0"/>
                </a:lnTo>
                <a:lnTo>
                  <a:pt x="21600" y="177945"/>
                </a:lnTo>
                <a:lnTo>
                  <a:pt x="0" y="177945"/>
                </a:lnTo>
                <a:close/>
              </a:path>
              <a:path fill="lightenLess" w="21600" h="177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7945">
                <a:moveTo>
                  <a:pt x="21600" y="0"/>
                </a:moveTo>
                <a:lnTo>
                  <a:pt x="21600" y="177945"/>
                </a:lnTo>
                <a:lnTo>
                  <a:pt x="20200" y="176545"/>
                </a:lnTo>
                <a:lnTo>
                  <a:pt x="20200" y="1400"/>
                </a:lnTo>
                <a:close/>
              </a:path>
              <a:path fill="darkenLess" w="21600" h="177945">
                <a:moveTo>
                  <a:pt x="21600" y="177945"/>
                </a:moveTo>
                <a:lnTo>
                  <a:pt x="0" y="177945"/>
                </a:lnTo>
                <a:lnTo>
                  <a:pt x="1400" y="176545"/>
                </a:lnTo>
                <a:lnTo>
                  <a:pt x="20200" y="176545"/>
                </a:lnTo>
                <a:close/>
              </a:path>
              <a:path fill="lighten" w="21600" h="177945">
                <a:moveTo>
                  <a:pt x="0" y="177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176545"/>
                </a:lnTo>
                <a:close/>
              </a:path>
              <a:path fill="darken" w="21600" h="177945">
                <a:moveTo>
                  <a:pt x="3794" y="81966"/>
                </a:moveTo>
                <a:lnTo>
                  <a:pt x="17806" y="88973"/>
                </a:lnTo>
                <a:lnTo>
                  <a:pt x="3794" y="9597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459160" y="3962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Forward or Next 5">
            <a:hlinkClick r:id="" action="ppaction://hlinkshowjump?jump=nextslide"/>
          </p:cNvPr>
          <p:cNvSpPr/>
          <p:nvPr/>
        </p:nvSpPr>
        <p:spPr>
          <a:xfrm>
            <a:off x="5791320" y="457200"/>
            <a:ext cx="609480" cy="2362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2362320"/>
              <a:gd name="textAreaBottom" fmla="*/ 2323080 h 2362320"/>
            </a:gdLst>
            <a:ahLst/>
            <a:rect l="textAreaLeft" t="textAreaTop" r="textAreaRight" b="textAreaBottom"/>
            <a:pathLst>
              <a:path w="21600" h="83684">
                <a:moveTo>
                  <a:pt x="0" y="0"/>
                </a:moveTo>
                <a:lnTo>
                  <a:pt x="21600" y="0"/>
                </a:lnTo>
                <a:lnTo>
                  <a:pt x="21600" y="83684"/>
                </a:lnTo>
                <a:lnTo>
                  <a:pt x="0" y="83684"/>
                </a:lnTo>
                <a:close/>
              </a:path>
              <a:path fill="lightenLess" w="21600" h="836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684">
                <a:moveTo>
                  <a:pt x="21600" y="0"/>
                </a:moveTo>
                <a:lnTo>
                  <a:pt x="21600" y="83684"/>
                </a:lnTo>
                <a:lnTo>
                  <a:pt x="20200" y="82284"/>
                </a:lnTo>
                <a:lnTo>
                  <a:pt x="20200" y="1400"/>
                </a:lnTo>
                <a:close/>
              </a:path>
              <a:path fill="darkenLess" w="21600" h="83684">
                <a:moveTo>
                  <a:pt x="21600" y="83684"/>
                </a:moveTo>
                <a:lnTo>
                  <a:pt x="0" y="83684"/>
                </a:lnTo>
                <a:lnTo>
                  <a:pt x="1400" y="82284"/>
                </a:lnTo>
                <a:lnTo>
                  <a:pt x="20200" y="82284"/>
                </a:lnTo>
                <a:close/>
              </a:path>
              <a:path fill="lighten" w="21600" h="83684">
                <a:moveTo>
                  <a:pt x="0" y="83684"/>
                </a:moveTo>
                <a:lnTo>
                  <a:pt x="0" y="0"/>
                </a:lnTo>
                <a:lnTo>
                  <a:pt x="1400" y="1400"/>
                </a:lnTo>
                <a:lnTo>
                  <a:pt x="1400" y="82284"/>
                </a:lnTo>
                <a:close/>
              </a:path>
              <a:path fill="darken" w="21600" h="83684">
                <a:moveTo>
                  <a:pt x="3794" y="34836"/>
                </a:moveTo>
                <a:lnTo>
                  <a:pt x="17806" y="41842"/>
                </a:lnTo>
                <a:lnTo>
                  <a:pt x="3794" y="4884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307240" y="3962520"/>
            <a:ext cx="440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0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9:44:07Z</dcterms:created>
  <dc:creator>Michael Burke</dc:creator>
  <dc:description/>
  <dc:language>en-US</dc:language>
  <cp:lastModifiedBy>Karen Murano</cp:lastModifiedBy>
  <dcterms:modified xsi:type="dcterms:W3CDTF">2011-08-15T19:46:58Z</dcterms:modified>
  <cp:revision>15</cp:revision>
  <dc:subject/>
  <dc:title>Slide 1</dc:title>
</cp:coreProperties>
</file>